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20.jpeg" ContentType="image/jpeg"/>
  <Override PartName="/ppt/media/image15.jpeg" ContentType="image/jpeg"/>
  <Override PartName="/ppt/media/image19.gif" ContentType="image/gif"/>
  <Override PartName="/ppt/media/image1.jpeg" ContentType="image/jpeg"/>
  <Override PartName="/ppt/media/image18.gif" ContentType="image/gif"/>
  <Override PartName="/ppt/media/image2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3.jpeg" ContentType="image/jpeg"/>
  <Override PartName="/ppt/media/image4.jpeg" ContentType="image/jpeg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69B-D0F1-4EA0-921C-8B7D79F5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46F-F1A6-4B5E-9153-39830163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4DD-3263-473E-861E-65E85BB0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928-B5D0-476E-A07D-F721E421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7ED8-14C5-40A0-ACF2-13E7239A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8755-AC4C-4F1F-93EE-5E275E17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3327-4EF7-4D13-86EB-528EA9F2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C278-A5E8-45C1-A298-304DD0AB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8B8E-D3C9-4E76-AD2D-B9C8DEA6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BDDC-4D3B-48C1-8A5C-0196244E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5B22-EA06-4658-B3F6-B411D9E2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128-F56E-4E94-993F-7A7E752C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694D-CE79-4D35-9874-A3ECD71A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5CAD-675E-47F5-ACC0-1FB3225A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DD5D-5C2D-4F9A-B9A0-397FCFF2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FC7E-EE76-4EE1-8988-4E9DDCDE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2280-1FFF-4AA5-865A-E8A6B67E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188-C130-4189-BD43-6671DAC7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704-D844-4C14-B49A-0A86B48A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64D-7FC1-40B0-83DA-BFAB6027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1ED-7FA3-4AFB-AFA3-0D88D8D8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CE0-BBB3-4D96-B53D-B815FBE5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2A3-832B-4994-B2E3-3B24BC0B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C0A-31D9-4ACE-BD87-F94B94B1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3916-5044-42B1-9327-A7E818F0D9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5BF4-2D6D-40F2-AC88-B4CAD3CF74F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nupeco.org/index.php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OOTLE"/>
              </a:rPr>
              <a:t>EXPERIMENTA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A marca das cervejas com o gosto do    Brasi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4680" y="2498760"/>
            <a:ext cx="329400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tremamente em dia com os direitos de seus empregados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87400" y="5573880"/>
            <a:ext cx="757224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nvestimento na capacitação de seus profissionais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eritocracia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441180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Tributo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 Empresa </a:t>
            </a:r>
            <a:r>
              <a:rPr b="0" lang="en-US" sz="3600" spc="-1" strike="noStrike">
                <a:solidFill>
                  <a:srgbClr val="ff3300"/>
                </a:solidFill>
                <a:latin typeface="BOOTLE"/>
              </a:rPr>
              <a:t>EXPERIMENTA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Ltda. encontra-se em dia com relação a créditos tributári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adro Atual da Empre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fastamento do Sócio Fundador em 2001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Falta de experiência dos sócios que estavam na  administração gerou problema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Falta de manutenção em dutos e filtro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Vazamento de produto acarretou dano ambiental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7336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6666"/>
                </a:solidFill>
                <a:latin typeface="Arial"/>
              </a:rPr>
              <a:t>Despesas imprevistas</a:t>
            </a:r>
            <a:endParaRPr b="1" lang="en-US" sz="3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ulta Ambiental, em 01/2005, no valor de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R$ 2.200.000,00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cuperação de dutos e filtros – Gasto de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R$2.300.000,00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stas despesas extraordinárias causaram o atraso no pagamento dos débit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adro Atual de Empre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raso no pagamento financiam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raso no pagamento - Empresa de gestão Ambient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raso no pagamento de fornecedores de matéria pri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assivo atual é de R$6.180.000,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9a16"/>
                </a:solidFill>
                <a:latin typeface="Arial"/>
              </a:rPr>
              <a:t>Ativo atual é de R$1.850.000,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luçõ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1º) O Ilustríssimo Ex-Presidente e fundador da </a:t>
            </a:r>
            <a:r>
              <a:rPr b="0" lang="pt-BR" sz="3200" spc="-1" strike="noStrike">
                <a:solidFill>
                  <a:srgbClr val="ff3300"/>
                </a:solidFill>
                <a:latin typeface="BOOTLE"/>
              </a:rPr>
              <a:t>EXPERIMENTA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Ltda, Sr. Adalgino Cartória retornará a Presidência da Empre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28432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luçõ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º) Contrato social alterad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centual de quot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0% ao sócio fundad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6.6% a cada um dos outros três sócios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º) Recontratação de empresa SGA Gestão Ambiental para manutenção da estrutura para que não mais cause dano ambiental - renovação periódica de licenç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luçõ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4º)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mpresa </a:t>
            </a: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Livre Comunicações Ltda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. será a responsável pelo campanha publicitária da marca em todo o Brasil e exterior, inclusive do lançamento da nova cerveja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4000" spc="-1" strike="noStrike">
                <a:solidFill>
                  <a:srgbClr val="993300"/>
                </a:solidFill>
                <a:latin typeface="Alison"/>
              </a:rPr>
              <a:t>QMagavilh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a cerveja do Bras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essário investir na campanha publicitária o valor de R$ 1.680.000,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luçõ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esquisa realizada pelo DataPovo demonstra que num cenário ruim, há perspectiva de crescimento no consumo de nossos produtos o que acarretará ao aumento de 10% nos lucr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um cenário mais otimista, </a:t>
            </a:r>
            <a:r>
              <a:rPr b="1" lang="pt-BR" sz="2400" spc="-1" strike="noStrike">
                <a:solidFill>
                  <a:srgbClr val="399a16"/>
                </a:solidFill>
                <a:latin typeface="Arial"/>
              </a:rPr>
              <a:t>crescimento de 14% nos luc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492360" y="4265640"/>
            <a:ext cx="24480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ga Não à Liquidaçã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preservação da </a:t>
            </a:r>
            <a:r>
              <a:rPr b="0" lang="en-US" sz="3200" spc="-1" strike="noStrike">
                <a:solidFill>
                  <a:srgbClr val="ff3300"/>
                </a:solidFill>
                <a:latin typeface="BOOTLE"/>
              </a:rPr>
              <a:t>EXPERIMENT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como fonte de produção de riquezas e tributos e de seus empregos diretos e indiretos são interesses que serão aniquilados se ocorrer a liquid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19280" y="2492280"/>
            <a:ext cx="25066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lano de Recuperação da Empresa </a:t>
            </a:r>
            <a:r>
              <a:rPr b="1" lang="en-US" sz="4000" spc="-1" strike="noStrike">
                <a:solidFill>
                  <a:srgbClr val="ff3300"/>
                </a:solidFill>
                <a:latin typeface="BOOTLE"/>
              </a:rPr>
              <a:t>EXPERIMENTA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Ltd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ndaçã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: 198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úmero de sócios: 4 com  25% das açõ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pital Social Integralizado: R$ 4.000.000,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alor do ativo (incluindo mobilizado e imobilizado) : R$ 5.000.000,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27640" y="2852640"/>
            <a:ext cx="43830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emissas do Plano de Recuperaçã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Extremamente necessário a aderência dos credores ao plano</a:t>
            </a: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, para que a fonte produtora permaneça ativa e consequentemente se possa quitar todas as dívida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Ocorrerá a preservação do valor econômico da </a:t>
            </a:r>
            <a:r>
              <a:rPr b="0" lang="en-US" sz="2800" spc="-1" strike="noStrike">
                <a:solidFill>
                  <a:srgbClr val="ff3300"/>
                </a:solidFill>
                <a:latin typeface="BOOTLE"/>
              </a:rPr>
              <a:t>EXPERIMENTA</a:t>
            </a: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, valor que seria destruído na hipótese de definitivo encerramento de suas atividades fato que acarretaria no não pagamento de todo o passivo da empresa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Certeza de que será moroso demais receber os créditos via judicial 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strutura do Plano de Recuperaçã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azo de carência para pagamento do débito em seis meses, com data início, em 19.03.2006, em decorrência do aumento de consumo nos meses de Novembro a Fevereir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348000" y="4581360"/>
            <a:ext cx="2808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strutura do Plano de Recuperaçã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primeira parcela a ser quitada representará a todos os credores  a quitação de 30% do crédito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 restante do crédito será pago num prazo de 23 meses em parcelas igu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03640" y="3213000"/>
            <a:ext cx="35290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monstração de Cumprimento do Plan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399a16"/>
                </a:solidFill>
                <a:latin typeface="Arial"/>
              </a:rPr>
              <a:t>   </a:t>
            </a:r>
            <a:r>
              <a:rPr b="1" lang="pt-BR" sz="3100" spc="-1" strike="noStrike">
                <a:solidFill>
                  <a:srgbClr val="399a16"/>
                </a:solidFill>
                <a:latin typeface="Arial"/>
              </a:rPr>
              <a:t>Com a carência de 6 meses, a empresa acumulará, para o mês de 03/06, um caixa de </a:t>
            </a:r>
            <a:r>
              <a:rPr b="1" lang="pt-BR" sz="3600" spc="-1" strike="noStrike">
                <a:solidFill>
                  <a:srgbClr val="399a16"/>
                </a:solidFill>
                <a:latin typeface="Arial"/>
              </a:rPr>
              <a:t>R$ 2.010.000,00</a:t>
            </a:r>
            <a:r>
              <a:rPr b="1" lang="pt-BR" sz="3100" spc="-1" strike="noStrike">
                <a:solidFill>
                  <a:srgbClr val="399a16"/>
                </a:solidFill>
                <a:latin typeface="Arial"/>
              </a:rPr>
              <a:t> mais juros bancários de 2% ao mês, oferecido pelo Banco Cervesiaa (risco zero)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Demonstração de Cumprimento do Plano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26920" y="2301840"/>
          <a:ext cx="7693200" cy="449568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99a16"/>
                          </a:solidFill>
                          <a:latin typeface="Arial"/>
                        </a:rPr>
                        <a:t>Acumulo de rendimento com crescimento </a:t>
                      </a:r>
                      <a:r>
                        <a:rPr b="1" lang="en-US" sz="20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de 10%</a:t>
                      </a:r>
                      <a:r>
                        <a:rPr b="0" lang="en-US" sz="2000" spc="-1" strike="noStrike">
                          <a:solidFill>
                            <a:srgbClr val="399a1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99a16"/>
                          </a:solidFill>
                          <a:latin typeface="Arial"/>
                        </a:rPr>
                        <a:t>nos lucro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ata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umulo de Rendimento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/0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$ 335.000,0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/0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$ 676.700,0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/0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$ 1.025.234,0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1/0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$ 1.380.738,6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2/0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$ 1.743.353,4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3/0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$ 2.148.784,92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o Débito p/ 03/0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acumulad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8ec7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$ 2.134.000,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$ 2.148.784,9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8ec7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Credores, seus créditos e Plano de Pagament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00000" y="2637000"/>
          <a:ext cx="7693200" cy="3433680"/>
        </p:xfrm>
        <a:graphic>
          <a:graphicData uri="http://schemas.openxmlformats.org/drawingml/2006/table">
            <a:tbl>
              <a:tblPr/>
              <a:tblGrid>
                <a:gridCol w="2438640"/>
                <a:gridCol w="2016000"/>
                <a:gridCol w="32385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mpres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édit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a de Pagamen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8ec7a"/>
                    </a:solidFill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nco Bibibi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$ 180.000,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.03.2006 R$ 54.000,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 X  R$ 5.478,26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8ec7a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nco BÓBÓBÓ 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$1.200,000,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.03.2006 R$ 360.000,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 X R$ 36.521,17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8ec7a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nco X Salada </a:t>
                      </a:r>
                      <a:endParaRPr b="0" lang="en-US" sz="2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$ 800.000,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.03.2006 R$ 240.000,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 X R$ 24.347,82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8ec7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Credores, seus créditos e Plano de Pagamento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26920" y="2682720"/>
          <a:ext cx="8317080" cy="4175280"/>
        </p:xfrm>
        <a:graphic>
          <a:graphicData uri="http://schemas.openxmlformats.org/drawingml/2006/table">
            <a:tbl>
              <a:tblPr/>
              <a:tblGrid>
                <a:gridCol w="2575080"/>
                <a:gridCol w="2187720"/>
                <a:gridCol w="2960640"/>
                <a:gridCol w="593640"/>
              </a:tblGrid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evada Eu Vou Junto Ltda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$ 1.600.000,0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.03.2006 R$ 480.000,00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 X  R$ 48.695,65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8ec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mbalagens Arca Ltda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$ 1.300.00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.03.2006 R$ 390.000.00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 X  R$ 39.565,21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8ec7a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egura Segurança Ltda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$ 200.000,0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.03.2006 R$ 60.000,00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 X R$ 6.086,95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8ec7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7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Livre Comunicações</a:t>
            </a: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 já aderiu ao plano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Empresa Livre Comunicações Ltda. firmou contrato para prestação dos serviços de Publicidade da marca </a:t>
            </a:r>
            <a:r>
              <a:rPr b="0" lang="en-US" sz="3200" spc="-1" strike="noStrike">
                <a:solidFill>
                  <a:srgbClr val="ff3300"/>
                </a:solidFill>
                <a:latin typeface="BOOTLE"/>
              </a:rPr>
              <a:t>EXPERIMENTA</a:t>
            </a:r>
            <a:r>
              <a:rPr b="0" lang="en-US" sz="3200" spc="-1" strike="noStrike">
                <a:solidFill>
                  <a:srgbClr val="003366"/>
                </a:solidFill>
                <a:latin typeface="BOOTLE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 receberá seu crédito da seguinte form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4797360"/>
          <a:ext cx="7693200" cy="1360440"/>
        </p:xfrm>
        <a:graphic>
          <a:graphicData uri="http://schemas.openxmlformats.org/drawingml/2006/table">
            <a:tbl>
              <a:tblPr/>
              <a:tblGrid>
                <a:gridCol w="2365560"/>
                <a:gridCol w="2376360"/>
                <a:gridCol w="2951280"/>
              </a:tblGrid>
              <a:tr h="13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Livre Comunicações Ltda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$ 1.680.000,00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.03.2006 R$280.000,00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 X R$ 140.000,00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8ec7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Empresa SGA Gestão Ambiental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já aderiu ao plan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mpresa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SGA Gestão Ambiental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já aderiu ao Plano de  Recuperação extrajudicial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 receberá seu crédito da seguinte form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42920" y="4797360"/>
          <a:ext cx="7693200" cy="121608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mpresa SGA Gestão Ambiental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$ 900.000,00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.03.2006 R$ 270.000,00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 X R$ 27.391,30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8ec7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monstração de Cumprimento do Plan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38080" y="2362320"/>
          <a:ext cx="7693200" cy="319392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os débito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$ 7.860.000,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bito p/ 03/0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$ 2.134.000,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 acumulado em 03/0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9a1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$ 2.148.784,2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9a1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bito para os meses subseqüent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$ 328.086,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cro líquido mensal: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99a1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$ 335.000,00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99a16"/>
                    </a:solidFill>
                  </a:tcPr>
                </a:tc>
              </a:tr>
            </a:tbl>
          </a:graphicData>
        </a:graphic>
      </p:graphicFrame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00000" y="5589360"/>
            <a:ext cx="76932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BS1.: Já descontadas as despesas fixas necessári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ra o funcionamento da 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BS2.: Cálculos baseados no crescimento de 10% nos lucros Nu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enário melhor espera-se um crescimento de 14%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norama Geral da Empres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mpresa Fundada em 1982, com 80 funcionários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m 1997 passou a ter 1840 funcionári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atualmente conta com cerca de 3.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42120" y="2362320"/>
            <a:ext cx="24066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arant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 empresa </a:t>
            </a:r>
            <a:r>
              <a:rPr b="0" lang="pt-BR" sz="2800" spc="-1" strike="noStrike">
                <a:solidFill>
                  <a:srgbClr val="ff3300"/>
                </a:solidFill>
                <a:latin typeface="BOOTLE"/>
              </a:rPr>
              <a:t>EXPERIMENTA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nta hoje com uma frota de 20 caminhões Scan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03280" y="4341960"/>
            <a:ext cx="3240000" cy="2278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932360" y="2730600"/>
            <a:ext cx="33116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BOOTLE"/>
              </a:rPr>
              <a:t>EXPERIMENTA Ltda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ntamos com a aderência de todos os credores, ao plano de recuperação ora apresentado, para que possamos continuar a bela história da empresa </a:t>
            </a:r>
            <a:r>
              <a:rPr b="0" lang="en-US" sz="4000" spc="-1" strike="noStrike">
                <a:solidFill>
                  <a:srgbClr val="ff3300"/>
                </a:solidFill>
                <a:latin typeface="BOOTLE"/>
              </a:rPr>
              <a:t>EXPERIMENTA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que desde sua origem só tem contribuído mais e mais com o desenvolvimento social do nosso Paí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que Industri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00000" y="479700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sui um parque industrial próprio e uma marca consolidada no mercado, faturando cerca de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R$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1.800.000,00 ao mês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76720" y="2421000"/>
            <a:ext cx="30337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Detentora da marca da cerveja </a:t>
            </a:r>
            <a:r>
              <a:rPr b="1" lang="pt-BR" sz="4000" spc="-1" strike="noStrike">
                <a:solidFill>
                  <a:srgbClr val="993300"/>
                </a:solidFill>
                <a:latin typeface="Ambient"/>
              </a:rPr>
              <a:t>Magavilha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3159000" cy="3159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7280" y="5589360"/>
            <a:ext cx="72597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reciada por cerca de 10% dos consumidores brasileiros de cervej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os de exporta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rceria com Empresa Alemã, para distribuição da cerveja Q Magavilha na 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ampanha publicitária voltada para o público internacional, especialmente Alemanha, Dinamarca, Argentina e Urugu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940360" y="249228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724360" y="4653000"/>
            <a:ext cx="2138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stribuição Nacional e no Mercosu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rceria com empresa Scania, para aquisição de novos Caminhões que ampliaram a capacidade de distribuição da produção em 50% no Brasil e em 30% no Mercosu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88000" y="2548080"/>
            <a:ext cx="345600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54440" y="2362320"/>
            <a:ext cx="36608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TLE"/>
              </a:rPr>
              <a:t>EXPERIMENTA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- Uma empresa sempre preocupada com o Soc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55880" y="2492280"/>
            <a:ext cx="1533600" cy="1524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7280" y="2516040"/>
            <a:ext cx="3925800" cy="1123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763640" y="4076640"/>
            <a:ext cx="2138400" cy="2368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219640" y="4149720"/>
            <a:ext cx="20401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8:29:54Z</dcterms:created>
  <dc:creator>Giuber J L Santos</dc:creator>
  <dc:description/>
  <dc:language>en-US</dc:language>
  <cp:lastModifiedBy>anct</cp:lastModifiedBy>
  <dcterms:modified xsi:type="dcterms:W3CDTF">2005-09-29T18:00:52Z</dcterms:modified>
  <cp:revision>30</cp:revision>
  <dc:subject/>
  <dc:title>EXPERIMENTA</dc:title>
</cp:coreProperties>
</file>