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8D57-C31D-4E93-B943-D55D95F2B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A8A3-CDBA-43B3-B0C7-A1FD5E35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55E2-4E40-47B2-AB8B-38665DB3D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6BA6-1356-469F-95CC-00CAE18C8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3826-2FB4-494E-A772-384180372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296F-FEBC-4F42-9A87-D1182829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FB75-76A4-451C-9568-2E95B2BA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0EEB-D5CB-4458-BA6E-A1EF9CEE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DCBA-1D08-4D72-BDC4-F6586517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0480" y="455400"/>
            <a:ext cx="891396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6156-D5CE-46D3-AED0-E01CF550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55F6-BDD6-4290-B687-A453FCAB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9598-123C-4CC2-8BA6-72F7760E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E82D-A182-47EB-93F5-FB729D24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BC32-5FB9-4857-9C3B-7048F81B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C317-35AB-4C30-91DE-BAE18920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F2FE-D862-4B64-B376-1EA81F221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EB34-17EF-4DC0-9499-5E9546CEF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8D97-5E0B-4BA3-AB7B-8F7A5003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4301-9FF8-499A-BBA2-180C0C2D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342D-3A1B-479F-9912-BF2A2533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480" y="455400"/>
            <a:ext cx="891396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B650-2E61-465C-96DF-0C8DA462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5EA7-C7CD-4351-875A-F6A098EA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DB8E-6B00-42A7-871C-2F8F9FE4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FE0E-516D-48F9-BAAB-2CC05A93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D831-3A29-412A-9039-8A2E1A15EE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304920" y="1314360"/>
            <a:ext cx="380844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13EF-8AAC-4C54-97A8-28370DE01B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8839080" cy="412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 Black"/>
              </a:rPr>
              <a:t>Elaboração de Projeto de Pesquisa com Ênfase na Área Jurídica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2742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Prof. Irineu Barret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905760" y="4724280"/>
            <a:ext cx="72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Black"/>
              </a:rPr>
              <a:t>Centro Universitário das Faculdades Metropolitanas Un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Black"/>
              </a:rPr>
              <a:t>UniF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 Black"/>
              </a:rPr>
              <a:t>Elaboração de Projeto de Pesquisa</a:t>
            </a:r>
            <a:endParaRPr b="0" i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Introdução ou Apresent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íntese daquilo que será apresentado a seguir. Deve esclarecer, de forma sintética e objetiva,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quilo que o pesquisador está se propondo a fazer e de que forma esse objetivo será cumprid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 Black"/>
              </a:rPr>
              <a:t>Elaboração de Projeto de Pesquisa</a:t>
            </a:r>
            <a:endParaRPr b="0" i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Tem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consiste no assunto que se deseja estudar ou desenvolver na pesquis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 Pode surgir através de preferência ou interesse profissional, demanda institucional, aplicação prática ou interesse científic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 Black"/>
              </a:rPr>
              <a:t>Elaboração de Projeto de Pesquisa</a:t>
            </a:r>
            <a:endParaRPr b="0" i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xempl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lações Trabalhistas no Brasil à Luz do Direi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rise no Sistema Penitenciár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Ônus da Prova nas ações do consumid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utela Constitucional de Bens Ambient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 Black"/>
              </a:rPr>
              <a:t>Elaboração de Projeto de Pesquisa</a:t>
            </a:r>
            <a:endParaRPr b="0" i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Objeto de Pesquis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fenômeno ou conjunto de fenômen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que se pretende estudar, conhecer ou investigar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a sua definição, é necessário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delimitar o objeto de estudo em termos de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tempo e espaç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 Black"/>
              </a:rPr>
              <a:t>Elaboração de Projeto de Pesquisa</a:t>
            </a:r>
            <a:endParaRPr b="0" i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de delimitação de tema em objeto de pesquis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Rizzatto Nune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liberd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liberdade juríd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liberdade no direito ocidental do século X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liberdade de agir diante do sistema jurídico brasilei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liberdade de agir do cidadão na Constituição de 198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 Black"/>
              </a:rPr>
              <a:t>Elaboração de Projeto de Pesquisa</a:t>
            </a:r>
            <a:endParaRPr b="0" i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s perante os temas propost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ise no Sistema Penitenciário: Rebeliões ocorridas nos presídios paulistas no biênio 2000-20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lações Trabalhistas no Brasil à Luz do Direito: o contrato de trabalho por prazo determinado - Lei 9601/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 Black"/>
              </a:rPr>
              <a:t>Elaboração de Projeto de Pesquisa</a:t>
            </a:r>
            <a:endParaRPr b="0" i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Justificativ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presenta respostas à questão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“por quê este trabalho é importante e deve ser realizado”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posição sucinta, porém completa, das razões de ordem teórica e dos motivos de ordem prática que tornam importante a realização da pesqui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 Black"/>
              </a:rPr>
              <a:t>Elaboração de Projeto de Pesquisa</a:t>
            </a:r>
            <a:endParaRPr b="0" i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Justificativa deve enfatiza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ribuições teóricas que a pesquisa pode trazer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portância do tema do ponto de vista geral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levância do tema para casos particulare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ssibilidade de sugerir modificações no âmbito da realidade abrangida pelo tema proposto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coberta de soluções para casos gerais ou particula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 Black"/>
              </a:rPr>
              <a:t>Elaboração de Projeto de Pesquisa</a:t>
            </a:r>
            <a:endParaRPr b="0" i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delimitação, feita com a maior clareza possível, daquilo que pretende o estud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 definido de forma clara, impede que o projeto se afaste do seu tema e daquilo que ele efetivamente se propôs a realiz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 Black"/>
              </a:rPr>
              <a:t>Elaboração de Projeto de Pesquisa</a:t>
            </a:r>
            <a:endParaRPr b="0" i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acilita pensar nos objetivos através de verb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ESQUIS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60000"/>
              </a:lnSpc>
              <a:spcBef>
                <a:spcPts val="700"/>
              </a:spcBef>
              <a:spcAft>
                <a:spcPts val="601"/>
              </a:spcAft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ALIS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700"/>
              </a:spcBef>
              <a:spcAft>
                <a:spcPts val="601"/>
              </a:spcAft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PAR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962160" y="1905120"/>
            <a:ext cx="401292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lnSpc>
                <a:spcPct val="490000"/>
              </a:lnSpc>
              <a:spcBef>
                <a:spcPts val="700"/>
              </a:spcBef>
              <a:spcAft>
                <a:spcPts val="601"/>
              </a:spcAft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B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70000"/>
              </a:lnSpc>
              <a:spcBef>
                <a:spcPts val="700"/>
              </a:spcBef>
              <a:spcAft>
                <a:spcPts val="601"/>
              </a:spcAft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ERIFIC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40000"/>
              </a:lnSpc>
              <a:spcBef>
                <a:spcPts val="700"/>
              </a:spcBef>
              <a:spcAft>
                <a:spcPts val="601"/>
              </a:spcAft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SCUT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 Black"/>
              </a:rPr>
              <a:t>Elaboração de Projeto de Pesquisa</a:t>
            </a:r>
            <a:endParaRPr b="0" i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 projeto de pesquisa nada mais é que uma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propost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para a realização de um estudo, uma investigação científica, uma pesquisa institucional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esses termos, difere de um estudo já concluído, trata-se de uma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proposta de investig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 Black"/>
              </a:rPr>
              <a:t>Elaboração de Projeto de Pesquisa</a:t>
            </a:r>
            <a:endParaRPr b="0" i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roblema de Pesqui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Principais questões ou perguntas que a pesquisa pretende responde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ve ser formulado em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pergunt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que orientarão o desenvolvimento da pesquis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 Black"/>
              </a:rPr>
              <a:t>Elaboração de Projeto de Pesquisa</a:t>
            </a:r>
            <a:endParaRPr b="0" i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xemplos:Tema “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mento Mercantil no Brasil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fomento mercantil é válido e legal no Brasil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is os aspectos mais importantes e controversos do fomento mercantil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is as principais alterações que o novo Código Civil trouxe para o fomento mercantil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is as correntes doutrinárias e jurisprudenciais acerca do tem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 Black"/>
              </a:rPr>
              <a:t>Elaboração de Projeto de Pesquisa</a:t>
            </a:r>
            <a:endParaRPr b="0" i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Hipóte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ão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afirmações que se fazem a priori sobre objeto a ser investigad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e que a pesquisa vai confirmar, ou não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m outras palavras, são as respostas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prováveis, supostas ou provisóri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para o problema de pesquis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 Black"/>
              </a:rPr>
              <a:t>Elaboração de Projeto de Pesquisa</a:t>
            </a:r>
            <a:endParaRPr b="0" i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Metodologia e Técnicas de Pesqui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xplicita COMO a pesquisa será realizada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istem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diferenç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entre metodologia e técnicas de pesquis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 Black"/>
              </a:rPr>
              <a:t>Elaboração de Projeto de Pesquisa</a:t>
            </a:r>
            <a:endParaRPr b="0" i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etodologia: abordagem teórica, filosófica, através da qual o objeto será investigado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écnicas de Pesquisa: abordagem prática, aplicada, mecanismos e técnicas através das quais o objeto será investig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 Black"/>
              </a:rPr>
              <a:t>Elaboração de Projeto de Pesquisa</a:t>
            </a:r>
            <a:endParaRPr b="0" i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xemplos de Metodologi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étodo indutivo: em que se parte do particular para o geral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étodo dedutivo: em que se parte do geral para o particul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 Black"/>
              </a:rPr>
              <a:t>Elaboração de Projeto de Pesquisa</a:t>
            </a:r>
            <a:endParaRPr b="0" i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utros exempl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étodo empírico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étodo dialético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étodo comparativo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étodo histórico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étodo estatístico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 Black"/>
              </a:rPr>
              <a:t>Elaboração de Projeto de Pesquisa</a:t>
            </a:r>
            <a:endParaRPr b="0" i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xemplos de Técnicas de Pesquisa na Área Jurídic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esquisa Documental Jurídic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 abrange o conhecimento produzido no amplo tema da ciência jurídica: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legislação, doutrina e jurisprudênci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 Black"/>
              </a:rPr>
              <a:t>Elaboração de Projeto de Pesquisa</a:t>
            </a:r>
            <a:endParaRPr b="0" i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Legislação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consiste em um conjunto de leis sobre determinada matéri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outrina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studos, obras ou artigos nos quais são encontradas as opiniões dos especialistas, juristas ou magistrados sobre diferentes temas do Direito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Jurisprudência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junto de decisões proferidas pelas jurisdições de Direito ou Tribunais Superi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 Black"/>
              </a:rPr>
              <a:t>Elaboração de Projeto de Pesquisa</a:t>
            </a:r>
            <a:endParaRPr b="0" i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is exemplos de Técnicas de Pesquisa na Área Jurídic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esquisa Bibliográfica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abrange a bibliografia já tornada pública em relação ao tema de estudo, livros, boletins, jornais, revistas, pesquisas, monografias, teses etc., até meios de comunicação orais: rádio, gravação em fita magnética ou audiovisuais: filmes e televisão.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 Black"/>
              </a:rPr>
              <a:t>Elaboração de Projeto de Pesquisa</a:t>
            </a:r>
            <a:endParaRPr b="0" i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 proposta deve responder basicamente a três pergunt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QUE FAZ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R QUE FAZÊ-L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O FAZÊ-L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 Black"/>
              </a:rPr>
              <a:t>Elaboração de Projeto de Pesquisa</a:t>
            </a:r>
            <a:endParaRPr b="0" i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écnicas de Pesquisa Complementares na Área Jurídic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esquisa Dire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28584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bservação e entrevista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28584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licação de questionários, medição de opinião e de atitu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 Black"/>
              </a:rPr>
              <a:t>Elaboração de Projeto de Pesquisa</a:t>
            </a:r>
            <a:endParaRPr b="0" i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bservaçõ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jetos de Pesquisa institucionais normalmente priorizam a delimitação das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técnicas de pesquis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jetos institucionais muitas vezes precisam dimensionar os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custos, equipamentos e recursos human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necessár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 Black"/>
              </a:rPr>
              <a:t>Elaboração de Projeto de Pesquisa</a:t>
            </a:r>
            <a:endParaRPr b="0" i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ronogra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maneira de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organizar o tempo disponível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para a realização das etapas da pesquisa,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em concordância com seus praz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e requisit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 Black"/>
              </a:rPr>
              <a:t>Elaboração de Projeto de Pesquisa</a:t>
            </a:r>
            <a:endParaRPr b="0" i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Bibliografia Prelimin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ndicação de toda bibliografia utilizada na realização do projeto ou que pode ser usada no desenrolar da pesquis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ua indicação deve seguir a Associação Brasileira de Normas Técnicas - AB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 Black"/>
              </a:rPr>
              <a:t>Elaboração de Projeto de Pesquisa</a:t>
            </a:r>
            <a:endParaRPr b="0" i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BIBLIOGRAFIA DESTE ROTEI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AKATOS, Eva Maria; MARCONI, Marina de Andrade.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écnicas de Pesquis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 São Paulo: Atlas, 1999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RCONI, Marina de Andrade.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todologia Científica para o Curso de Direit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 São Paulo: Atlas, 2000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 Black"/>
              </a:rPr>
              <a:t>Elaboração de Projeto de Pesquisa</a:t>
            </a:r>
            <a:endParaRPr b="0" i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comenda-se, antes de iniciar a realização do projeto, uma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revisão da literatur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sobre o tema que se pretende investigar, para, com isso, obter subsídios, elementos e referências para a realização do projeto e para a delimitação do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referencial teóric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 Black"/>
              </a:rPr>
              <a:t>Elaboração de Projeto de Pesquisa</a:t>
            </a:r>
            <a:endParaRPr b="0" i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odo projeto parte de um </a:t>
            </a:r>
            <a:r>
              <a:rPr b="1" i="1" lang="pt-BR" sz="3200" spc="-1" strike="noStrike">
                <a:solidFill>
                  <a:srgbClr val="000000"/>
                </a:solidFill>
                <a:latin typeface="Tahoma"/>
              </a:rPr>
              <a:t>referencial teórico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lgumas instituições solicitam que seja sintetizado num único tópico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aso contrário, esse referencial poderá ser verificado ao longo da delimitação do tema, na justificativa, nas hipótese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 Black"/>
              </a:rPr>
              <a:t>Elaboração de Projeto de Pesquisa</a:t>
            </a:r>
            <a:endParaRPr b="0" i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proposta de projeto de pesquisa descrita nessa apresentação é estruturada nos seguintes tópic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 Black"/>
              </a:rPr>
              <a:t>Elaboração de Projeto de Pesquisa</a:t>
            </a:r>
            <a:endParaRPr b="0" i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2" marL="1017000" indent="0" algn="just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ítu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0" algn="just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0" algn="just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ma e Objeto de Pesqu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0" algn="just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Justificat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0" algn="just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0" algn="just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blema de Pesquisa e Hipóte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0" algn="just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todologia e Técnicas de Pesqu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0" algn="just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onograma de Ativida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0" algn="just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ibliografia Prelimin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 Black"/>
              </a:rPr>
              <a:t>Elaboração de Projeto de Pesquisa</a:t>
            </a:r>
            <a:endParaRPr b="0" i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Títu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título do estudo deve ser colocado em termos abrangentes que permitam, porém, sintetizar o conteúdo da pesquisa. Pode ser elaborado depois do projeto finaliz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0480" y="455400"/>
            <a:ext cx="89139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 Black"/>
              </a:rPr>
              <a:t>Elaboração de Projeto de Pesquisa</a:t>
            </a:r>
            <a:endParaRPr b="0" i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xempl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aplicação d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habeas corpu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no sistema jurídico brasilei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erda da Propriedade Imóvel: desapropria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utela antecipada no Direito Processual Brasilei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nião de homossexuais: aspectos gerais e patrimoni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5:38:19Z</dcterms:created>
  <dc:creator>maresias</dc:creator>
  <dc:description/>
  <dc:language>en-US</dc:language>
  <cp:lastModifiedBy>maresias</cp:lastModifiedBy>
  <dcterms:modified xsi:type="dcterms:W3CDTF">2005-04-13T12:38:53Z</dcterms:modified>
  <cp:revision>26</cp:revision>
  <dc:subject/>
  <dc:title>Elaboração de Projeto de Pesquisa</dc:title>
</cp:coreProperties>
</file>